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4A5-3259-4C22-9F85-88AB2AB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9A5-DD00-428D-BC36-3C3C4ED2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9D0-DAFE-4BA8-BC01-A2CC86DB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A46-7CBF-4E99-9DFE-329B71CA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A70-B0CF-4DD9-9D7C-8BBB902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2C8-2A1A-44B3-BA3B-B3597162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E61-FADC-429F-BBC5-A6B00EC2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966-E2B3-4869-82E6-CDBBD01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FF9-C1A7-4520-9FE2-BE8998F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11B-3E5D-4DC5-AE1C-2B5A3092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3BB-1E18-4729-9682-395C5A1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D31-2231-42F3-88DC-0F99C13F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867-F44B-422B-AFF0-5A2A045A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video" Target="file:///tmp/home/.config/libreoffice/4/user/gallery/Recorded%20Sound" TargetMode="External"/><Relationship Id="rId6" Type="http://schemas.microsoft.com/office/2007/relationships/media" Target="file:///tmp/home/.config/libreoffice/4/user/gallery/Recorded%20Sound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5105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530800">
            <a:off x="5640840" y="4723920"/>
            <a:ext cx="3124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 Schwe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, January 06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1752480"/>
            <a:ext cx="4343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wberries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409760" cy="196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1409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315200" y="990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343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How of Strawber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wberries are mostly grown in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grown in Canada, Israel, New Zealand, Australi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nited States, California are where strawberries are grown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so grown in Florida, Louisian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wberries originated in It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wberry Fact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600 varieties of strawbe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 grows about 85% of the strawberries available today in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ver 200 seeds on the outside of every strawbe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sh strawberries until you are to ea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al Va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Vitam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source of Fi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of other vitamins and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8 strawberries as one serving of fr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Strawberries they are very good for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14600" y="1676520"/>
            <a:ext cx="4576680" cy="29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99000"/>
                  </a:srgbClr>
                </a:solidFill>
                <a:latin typeface="Arial Black"/>
              </a:rPr>
              <a:t>Carr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99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148284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34340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How of Carr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originated in Near East of Middl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ld carrots are grown the most in Canada, Mexico, and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nited States, carrots are grown the most in Califor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so grown in Florida, Texa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o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are related to the celery, parsley and h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have more sugar than most other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ots are available all year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al Va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Vitami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 source of Vitam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source of others vitamins and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49:46Z</dcterms:created>
  <dc:creator>install</dc:creator>
  <dc:description/>
  <dc:language>en-US</dc:language>
  <cp:lastModifiedBy>install</cp:lastModifiedBy>
  <dcterms:modified xsi:type="dcterms:W3CDTF">2012-01-12T15:10:47Z</dcterms:modified>
  <cp:revision>7</cp:revision>
  <dc:subject/>
  <dc:title>Slide 1</dc:title>
</cp:coreProperties>
</file>